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EB50C-F9D6-4B3C-88A6-78FDB14F6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B622B-15AE-4D32-A67D-D1A1E6B2F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D6D55-F679-43F0-ABC3-EE7DE0EC3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34694"/>
                </a:solidFill>
                <a:latin typeface="Times New Roman"/>
              </a:rPr>
              <a:t>Figure 11.19 Apoptosis of human 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03CF9-817C-4C06-8D71-3E616C96F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34694"/>
                </a:solidFill>
                <a:latin typeface="Times New Roman"/>
              </a:rPr>
              <a:t>Figure 11.21 Effect of apoptosis during paw development in the 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49F-4557-4C66-BF7E-F99C92E1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396-37B9-4870-A2AE-D9E5466C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8BD-1124-4FE1-967B-04998588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824-831C-4970-A84C-D7D50389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70A-6149-45C2-92A9-123C12C6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3C39-25F8-491E-A876-47C9B744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62EA-B5B2-49E8-A904-9304AFC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BAC3-0CF7-4192-AA91-7834336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AE96-6B21-4626-A3AD-760A621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93F-0FD2-4544-9951-8C33907B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45F-C5C9-4463-8636-EEEE8C4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2C4-DAE6-4FD6-B415-359BADD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2441-5B2E-4394-BEA6-CAC18EF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B0F-197B-41D5-AC27-8F30CA6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4626-F23D-41DB-AB7E-0F45CD8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73BE-28A4-4089-A329-ED36D0D7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3B45-74D5-4934-AC93-025BE117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221-E5D9-4C14-B4CE-1550490A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2C6-D5B4-4248-9534-A1F9D3BC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6E2-032E-4F62-AF26-EE2100C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F59-F0F2-4E6A-BEF3-41B72DA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A6-10FA-4AF1-A83A-11A7422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DBB-13DB-47FF-AD7E-078C0D2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448-4BA2-4517-A242-29B9E5D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F81F0-E748-45D1-B01D-D78304D6D61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15F5F-D516-4FD0-A1AD-125F48A7FB6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BD778-B239-4EAE-AD38-71F60E2591ED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7DBB6-B15E-4355-BBB9-2E4C3304765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d.com/talks/bonnie_bassler_on_how_bacteria_communicate.html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rm-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do you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you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you think cells communicate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o you think bacteria can communicate? Explai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cep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4" descr="11_06CellSigOverview_1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ans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Content Placeholder 4" descr="11_06CellSigOverview_2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spon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4" descr="11_06CellSigOverview_3-L.jpg"/>
          <p:cNvPicPr/>
          <p:nvPr/>
        </p:nvPicPr>
        <p:blipFill>
          <a:blip r:embed="rId1"/>
          <a:stretch/>
        </p:blipFill>
        <p:spPr>
          <a:xfrm>
            <a:off x="549360" y="1873080"/>
            <a:ext cx="8042040" cy="37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0120" y="177480"/>
            <a:ext cx="826128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1. Recep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30120" y="1427040"/>
            <a:ext cx="8594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inding between signal molecule (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ligand</a:t>
            </a: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)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+ </a:t>
            </a:r>
            <a:r>
              <a:rPr b="1" lang="en-US" sz="2800" spc="-1" strike="noStrike">
                <a:solidFill>
                  <a:srgbClr val="00b050"/>
                </a:solidFill>
                <a:latin typeface="News Gothic MT"/>
              </a:rPr>
              <a:t>recepto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highly specific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ypes of Receptor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863640" indent="-5144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lasma membrane recept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water-soluble ligand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863640" indent="-51444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Intracellular receptors</a:t>
            </a: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(cytoplasm, nucleu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drophobic or small liga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1146240" indent="-51444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. testosterone or nitric oxide (N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gand binds to receptor protein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protein changes </a:t>
            </a:r>
            <a:r>
              <a:rPr b="1" i="1" lang="en-US" sz="2800" spc="-1" strike="noStrike">
                <a:solidFill>
                  <a:srgbClr val="0000ff"/>
                </a:solidFill>
                <a:latin typeface="News Gothic MT"/>
              </a:rPr>
              <a:t>SHAPE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nitiate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News Gothic MT"/>
              </a:rPr>
              <a:t>transduction sig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307800"/>
            <a:ext cx="80420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G-Protein-Coupled Receptor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Content Placeholder 7" descr="11_07aGProteinCoupled-L.jpg"/>
          <p:cNvPicPr/>
          <p:nvPr/>
        </p:nvPicPr>
        <p:blipFill>
          <a:blip r:embed="rId1"/>
          <a:stretch/>
        </p:blipFill>
        <p:spPr>
          <a:xfrm>
            <a:off x="349200" y="1730520"/>
            <a:ext cx="3492720" cy="408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1_08GPCRStructure-L.jpg"/>
          <p:cNvPicPr/>
          <p:nvPr/>
        </p:nvPicPr>
        <p:blipFill>
          <a:blip r:embed="rId2"/>
          <a:stretch/>
        </p:blipFill>
        <p:spPr>
          <a:xfrm>
            <a:off x="4125960" y="2266920"/>
            <a:ext cx="47181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307800"/>
            <a:ext cx="80420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G-Protein-Coupled Receptor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4" name="Content Placeholder 5" descr="11_07bGProteinCoupled-L.jpg"/>
          <p:cNvPicPr/>
          <p:nvPr/>
        </p:nvPicPr>
        <p:blipFill>
          <a:blip r:embed="rId1"/>
          <a:stretch/>
        </p:blipFill>
        <p:spPr>
          <a:xfrm>
            <a:off x="600120" y="1600200"/>
            <a:ext cx="794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17468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45260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7 transmembrane segments in membra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3684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G protein + GTP  activates enzym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Receptor Tyrosine Kinase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Content Placeholder 4" descr="11_07cRTKs-L.jpg"/>
          <p:cNvPicPr/>
          <p:nvPr/>
        </p:nvPicPr>
        <p:blipFill>
          <a:blip r:embed="rId1"/>
          <a:stretch/>
        </p:blipFill>
        <p:spPr>
          <a:xfrm>
            <a:off x="993600" y="1225440"/>
            <a:ext cx="717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ttaches (P) to tyro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ctiv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News Gothic MT"/>
                        </a:rPr>
                        <a:t>multip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ular responses at 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rm-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004400"/>
            <a:ext cx="804204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are the structure &amp; function of these receptor proteins: GPCR, tyrosine kinase and ligand-gated ion channe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is a second messenger? What are some examples of these molecul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are the possible responses to signal transduction in a cell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560" y="107640"/>
            <a:ext cx="8521560" cy="17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7c9f"/>
                </a:solidFill>
                <a:latin typeface="News Gothic MT"/>
              </a:rPr>
              <a:t>Ligand-Gated Ion Channel</a:t>
            </a: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2" name="Content Placeholder 4" descr="11_07dIonChannelReceptors-L.jpg"/>
          <p:cNvPicPr/>
          <p:nvPr/>
        </p:nvPicPr>
        <p:blipFill>
          <a:blip r:embed="rId1"/>
          <a:stretch/>
        </p:blipFill>
        <p:spPr>
          <a:xfrm>
            <a:off x="277920" y="2122560"/>
            <a:ext cx="85946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25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ignal on receptor changes 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gulate flow of specific 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(C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, 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790560"/>
            <a:ext cx="804204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 Recepto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9360" y="1933560"/>
          <a:ext cx="8042040" cy="4164120"/>
        </p:xfrm>
        <a:graphic>
          <a:graphicData uri="http://schemas.openxmlformats.org/drawingml/2006/table">
            <a:tbl>
              <a:tblPr/>
              <a:tblGrid>
                <a:gridCol w="2681280"/>
                <a:gridCol w="2679480"/>
                <a:gridCol w="2681280"/>
              </a:tblGrid>
              <a:tr h="117468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-Protein Coupled Receptor (GPC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Tyrosine Kin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Ligand-Gated Ion Channe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145260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7 transmembrane segments in membra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ttaches (P) to tyros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ignal on receptor changes sh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36840"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G protein + GTP  activates enzym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 respo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Activate </a:t>
                      </a: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News Gothic MT"/>
                        </a:rPr>
                        <a:t>multipl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 cellular responses at o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gulate flow of specific 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(C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2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, N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News Gothic MT"/>
                        </a:rPr>
                        <a:t>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8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2. Transduct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136520"/>
            <a:ext cx="82328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95959"/>
                </a:solidFill>
                <a:uFillTx/>
                <a:latin typeface="News Gothic MT"/>
              </a:rPr>
              <a:t>Cascade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of molecular interactions relay signals from receptors </a:t>
            </a:r>
            <a:r>
              <a:rPr b="0" lang="en-US" sz="32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target molecul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News Gothic MT"/>
              </a:rPr>
              <a:t>Protein kinas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: enzyme that phosphorylates and activates proteins at next leve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95959"/>
                </a:solidFill>
                <a:uFillTx/>
                <a:latin typeface="News Gothic MT"/>
              </a:rPr>
              <a:t>Phosphorylation cascad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: enhance and amplify sign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11_10_PhosphorylatCascade-L.jpg"/>
          <p:cNvPicPr/>
          <p:nvPr/>
        </p:nvPicPr>
        <p:blipFill>
          <a:blip r:embed="rId1"/>
          <a:stretch/>
        </p:blipFill>
        <p:spPr>
          <a:xfrm>
            <a:off x="314280" y="136440"/>
            <a:ext cx="85154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Second Messenger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9000" y="864720"/>
            <a:ext cx="82328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mall, nonprotein molecules/ions that can relay signal inside cel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g. 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cyclic AMP (cAMP), calcium ions (C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News Gothic MT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), inositol triphosphate (IP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News Gothic MT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News Gothic MT"/>
              </a:rPr>
              <a:t>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2" name="Picture 6" descr="11_14CalciumAndIP3_3-L.jpg"/>
          <p:cNvPicPr/>
          <p:nvPr/>
        </p:nvPicPr>
        <p:blipFill>
          <a:blip r:embed="rId1"/>
          <a:stretch/>
        </p:blipFill>
        <p:spPr>
          <a:xfrm>
            <a:off x="2119320" y="2716200"/>
            <a:ext cx="48880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M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958320"/>
            <a:ext cx="804204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MP = cyclic adenosine monophosph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PCR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denylyl cyclase (convert ATP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cAMP)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ctivate protein kinase A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5" name="Picture 5" descr="11_12cAMPSecondMessenger-L.jpg"/>
          <p:cNvPicPr/>
          <p:nvPr/>
        </p:nvPicPr>
        <p:blipFill>
          <a:blip r:embed="rId1"/>
          <a:stretch/>
        </p:blipFill>
        <p:spPr>
          <a:xfrm>
            <a:off x="2973240" y="2846520"/>
            <a:ext cx="3888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4520" y="888840"/>
            <a:ext cx="804240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3. Response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800" y="1836720"/>
            <a:ext cx="51274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e protein synthesis by turning on/off genes in nucleus (gene expression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e activity of proteins in cytoplas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4" descr="11_15NuclearResponse-L.jpg"/>
          <p:cNvPicPr/>
          <p:nvPr/>
        </p:nvPicPr>
        <p:blipFill>
          <a:blip r:embed="rId1"/>
          <a:stretch/>
        </p:blipFill>
        <p:spPr>
          <a:xfrm>
            <a:off x="5232240" y="1128600"/>
            <a:ext cx="3719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 Example of Cell Communic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http://learn.genetics.utah.edu/content/begin/cells/cellcom/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Signal Transduction Pathway Problems/Defects: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xamples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abe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olera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utoimmune diseas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nce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urotoxins, poisons, pesticid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rugs (anesthetics, antihistamines, blood pressure med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Communic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CHAPTER 11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4" descr="11_01GazelleFlight-L.jpg"/>
          <p:cNvPicPr/>
          <p:nvPr/>
        </p:nvPicPr>
        <p:blipFill>
          <a:blip r:embed="rId1"/>
          <a:stretch/>
        </p:blipFill>
        <p:spPr>
          <a:xfrm>
            <a:off x="2706840" y="3863880"/>
            <a:ext cx="3757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55880" y="107640"/>
            <a:ext cx="48355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oler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77560" y="2828880"/>
            <a:ext cx="40100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sease acquired by drinking contaminated water (w/human fec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cteria (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Vibrio cholera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 colonizes lining of small intestine and produces tox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46440" y="2217240"/>
            <a:ext cx="4299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xin modifies G-protein involved in regulating salt &amp; water 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 protein stuck in active form 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intestinal cells secrete salts,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fected person develops profuse diarrhea and could die from loss of water and sal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6" name="Picture 2" descr="http://www.schmidtandclark.com/wp-content/uploads/cholera.jpg"/>
          <p:cNvPicPr/>
          <p:nvPr/>
        </p:nvPicPr>
        <p:blipFill>
          <a:blip r:embed="rId1"/>
          <a:stretch/>
        </p:blipFill>
        <p:spPr>
          <a:xfrm>
            <a:off x="549360" y="306360"/>
            <a:ext cx="2936880" cy="222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herbalgranny.com/wp-content/uploads/2009/08/cholera-bacteria.jpg"/>
          <p:cNvPicPr/>
          <p:nvPr/>
        </p:nvPicPr>
        <p:blipFill>
          <a:blip r:embed="rId2"/>
          <a:stretch/>
        </p:blipFill>
        <p:spPr>
          <a:xfrm>
            <a:off x="6593040" y="306360"/>
            <a:ext cx="2252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iagr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3941640"/>
            <a:ext cx="80420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sed as treatment for erectile dysfunc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hibits hydrolysis of cGMP </a:t>
            </a:r>
            <a:r>
              <a:rPr b="0" lang="en-US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GMP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longs signal to relax smooth muscle in artery walls; increase blood flow to peni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0" name="Picture 4" descr="http://www.marketingpilgrim.com/wp-content/uploads/2009/10/viagra.jpg"/>
          <p:cNvPicPr/>
          <p:nvPr/>
        </p:nvPicPr>
        <p:blipFill>
          <a:blip r:embed="rId1"/>
          <a:stretch/>
        </p:blipFill>
        <p:spPr>
          <a:xfrm>
            <a:off x="4834080" y="1003320"/>
            <a:ext cx="3946320" cy="2817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1_01ViagraBoundToEnzyme-U"/>
          <p:cNvPicPr/>
          <p:nvPr/>
        </p:nvPicPr>
        <p:blipFill>
          <a:blip r:embed="rId2"/>
          <a:stretch/>
        </p:blipFill>
        <p:spPr>
          <a:xfrm>
            <a:off x="549360" y="1003320"/>
            <a:ext cx="3763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static.ddmcdn.com/gif/viagra-chemicals.gif"/>
          <p:cNvPicPr/>
          <p:nvPr/>
        </p:nvPicPr>
        <p:blipFill>
          <a:blip r:embed="rId1"/>
          <a:stretch/>
        </p:blipFill>
        <p:spPr>
          <a:xfrm>
            <a:off x="1630440" y="1162080"/>
            <a:ext cx="5968800" cy="5224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News Gothic MT"/>
              </a:rPr>
              <a:t>Viagra inhibits cGMP breakdown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10-Point Star 8"/>
          <p:cNvSpPr/>
          <p:nvPr/>
        </p:nvSpPr>
        <p:spPr>
          <a:xfrm>
            <a:off x="5921280" y="3747960"/>
            <a:ext cx="1784520" cy="1724040"/>
          </a:xfrm>
          <a:custGeom>
            <a:avLst/>
            <a:gdLst>
              <a:gd name="textAreaLeft" fmla="*/ 378360 w 1784520"/>
              <a:gd name="textAreaRight" fmla="*/ 1406160 w 1784520"/>
              <a:gd name="textAreaTop" fmla="*/ 519120 h 1724040"/>
              <a:gd name="textAreaBottom" fmla="*/ 1204920 h 1724040"/>
            </a:gdLst>
            <a:ahLst/>
            <a:rect l="textAreaLeft" t="textAreaTop" r="textAreaRight" b="textAreaBottom"/>
            <a:pathLst>
              <a:path w="1784350" h="1724025">
                <a:moveTo>
                  <a:pt x="-1" y="595633"/>
                </a:moveTo>
                <a:lnTo>
                  <a:pt x="378576" y="519120"/>
                </a:lnTo>
                <a:lnTo>
                  <a:pt x="340777" y="164627"/>
                </a:lnTo>
                <a:lnTo>
                  <a:pt x="695997" y="307204"/>
                </a:lnTo>
                <a:lnTo>
                  <a:pt x="892175" y="0"/>
                </a:lnTo>
                <a:lnTo>
                  <a:pt x="1088353" y="307204"/>
                </a:lnTo>
                <a:lnTo>
                  <a:pt x="1443573" y="164627"/>
                </a:lnTo>
                <a:lnTo>
                  <a:pt x="1405774" y="519120"/>
                </a:lnTo>
                <a:lnTo>
                  <a:pt x="1784351" y="595633"/>
                </a:lnTo>
                <a:lnTo>
                  <a:pt x="1527016" y="862013"/>
                </a:lnTo>
                <a:lnTo>
                  <a:pt x="1784351" y="1128392"/>
                </a:lnTo>
                <a:lnTo>
                  <a:pt x="1405774" y="1204905"/>
                </a:lnTo>
                <a:lnTo>
                  <a:pt x="1443573" y="1559398"/>
                </a:lnTo>
                <a:lnTo>
                  <a:pt x="1088353" y="1416821"/>
                </a:lnTo>
                <a:lnTo>
                  <a:pt x="892175" y="1724025"/>
                </a:lnTo>
                <a:lnTo>
                  <a:pt x="695997" y="1416821"/>
                </a:lnTo>
                <a:lnTo>
                  <a:pt x="340777" y="1559398"/>
                </a:lnTo>
                <a:lnTo>
                  <a:pt x="378576" y="1204905"/>
                </a:lnTo>
                <a:lnTo>
                  <a:pt x="-1" y="1128392"/>
                </a:lnTo>
                <a:lnTo>
                  <a:pt x="257334" y="862013"/>
                </a:lnTo>
                <a:lnTo>
                  <a:pt x="-1" y="59563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poptosis = cell suic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9000" y="1270080"/>
            <a:ext cx="80420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ell is dismantled and diges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riggered by signals that activate cascade of </a:t>
            </a:r>
            <a:r>
              <a:rPr b="0" lang="ja-JP" sz="2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uicide</a:t>
            </a:r>
            <a:r>
              <a:rPr b="0" lang="ja-JP" sz="2800" spc="-1" strike="noStrike">
                <a:solidFill>
                  <a:srgbClr val="595959"/>
                </a:solidFill>
                <a:latin typeface="News Gothic MT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proteins (</a:t>
            </a: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caspas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tect neighboring cells from damag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imal development &amp; maintenanc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ay be involved in some diseases (Parkinson’s, Alzheimer’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5680" y="3807000"/>
            <a:ext cx="841680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poptosis of a human white blood cel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31920" y="5067000"/>
            <a:ext cx="84564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Left: Normal WBC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Right: WBC undergoing apoptosis – shrinking and forming lobes (</a:t>
            </a:r>
            <a:r>
              <a:rPr b="0" lang="ja-JP" sz="20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blebs</a:t>
            </a:r>
            <a:r>
              <a:rPr b="0" lang="ja-JP" sz="2000" spc="-1" strike="noStrike">
                <a:solidFill>
                  <a:srgbClr val="000000"/>
                </a:solidFill>
                <a:latin typeface="News Gothic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News Gothic MT"/>
              </a:rPr>
              <a:t>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9" name="Picture Placeholder 5" descr="11_20ApoptosisWBC-L.jpg"/>
          <p:cNvPicPr/>
          <p:nvPr/>
        </p:nvPicPr>
        <p:blipFill>
          <a:blip r:embed="rId1"/>
          <a:srcRect l="0" t="18759" r="0" b="18759"/>
          <a:stretch/>
        </p:blipFill>
        <p:spPr>
          <a:xfrm>
            <a:off x="371520" y="569880"/>
            <a:ext cx="8400960" cy="283680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4060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Effect of apoptosis during paw development in the mous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1" name="Picture 11" descr="11_22_ApoptosisPawDev-L.jpg"/>
          <p:cNvPicPr/>
          <p:nvPr/>
        </p:nvPicPr>
        <p:blipFill>
          <a:blip r:embed="rId1"/>
          <a:stretch/>
        </p:blipFill>
        <p:spPr>
          <a:xfrm>
            <a:off x="298440" y="2219400"/>
            <a:ext cx="8547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7080" y="81000"/>
            <a:ext cx="749808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What you should know: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12680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3 stages of cell communication: reception, transduction, and respons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G-protein-coupled receptors receive signals and start transduction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receptor tyrosine kinase receive cell signals and start transduction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a cell signal is amplified by a phosphorylation cascad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ow a cell response in the nucleus turns on genes while in the cytoplasm it activates enzyme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296640" indent="-2966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apoptosis means and why it is important to normal functioning of multicellular organism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Do bacteria communicate?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030a0"/>
                </a:solidFill>
                <a:uFillTx/>
                <a:latin typeface="News Gothic MT"/>
                <a:hlinkClick r:id="rId1"/>
              </a:rPr>
              <a:t>Bonnie Bassler on How Bacteria </a:t>
            </a:r>
            <a:r>
              <a:rPr b="0" lang="ja-JP" sz="2200" spc="-1" strike="noStrike">
                <a:solidFill>
                  <a:srgbClr val="89898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898989"/>
                </a:solidFill>
                <a:latin typeface="News Gothic MT"/>
              </a:rPr>
              <a:t>Talk</a:t>
            </a:r>
            <a:r>
              <a:rPr b="0" lang="ja-JP" sz="2200" spc="-1" strike="noStrike">
                <a:solidFill>
                  <a:srgbClr val="898989"/>
                </a:solidFill>
                <a:latin typeface="News Gothic MT"/>
              </a:rPr>
              <a:t>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ideo Questions: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y are scientists studying how </a:t>
            </a: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bacteria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and not just human cells) communicat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is quorum sensing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scribe how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Vibrio fischeri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 quorum sensing in squi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cording to Bonnie Bassler (Princeton University), what are scientists hoping to use as the next class of antibiotic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35000"/>
            <a:ext cx="8042040" cy="13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Signal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1840" y="1789200"/>
            <a:ext cx="56592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Animal cells communicate b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rect contact (gap junction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reting local regulators (growth factors, neurotransmitter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ng distance (hormones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5" name="Picture 7" descr="11_04DirectContact-L.jpg"/>
          <p:cNvPicPr/>
          <p:nvPr/>
        </p:nvPicPr>
        <p:blipFill>
          <a:blip r:embed="rId1"/>
          <a:stretch/>
        </p:blipFill>
        <p:spPr>
          <a:xfrm>
            <a:off x="5722920" y="2306520"/>
            <a:ext cx="34034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11_05_LocalLongDistance-L.jpg"/>
          <p:cNvPicPr/>
          <p:nvPr/>
        </p:nvPicPr>
        <p:blipFill>
          <a:blip r:embed="rId1"/>
          <a:stretch/>
        </p:blipFill>
        <p:spPr>
          <a:xfrm>
            <a:off x="77760" y="1235160"/>
            <a:ext cx="902196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2342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News Gothic MT"/>
              </a:rPr>
              <a:t>3 Stages of Cell Signaling: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Recep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Detection of a signal molecule (</a:t>
            </a:r>
            <a:r>
              <a:rPr b="0" lang="en-US" sz="2800" spc="-1" strike="noStrike">
                <a:solidFill>
                  <a:srgbClr val="ff0000"/>
                </a:solidFill>
                <a:latin typeface="News Gothic MT"/>
              </a:rPr>
              <a:t>lig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) coming from outside the cel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Transduc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Convert signal to a form that can bring about a cellular respons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Respons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: Cellular response to the signal molecu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56:22Z</dcterms:created>
  <dc:creator>local</dc:creator>
  <dc:description/>
  <dc:language>en-US</dc:language>
  <cp:lastModifiedBy>local</cp:lastModifiedBy>
  <dcterms:modified xsi:type="dcterms:W3CDTF">2014-03-04T19:04:37Z</dcterms:modified>
  <cp:revision>37</cp:revision>
  <dc:subject/>
  <dc:title>Warm-Up</dc:title>
</cp:coreProperties>
</file>